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226-840B-4832-A07B-75209073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67E-EDC3-4C20-B767-D99477FB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77B-BEA8-4983-A9E4-5ADB514F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868-02D4-49A5-8BDF-F90B1216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9DB-275C-47A2-BD53-CFF1C8FC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713-85B2-4341-97A2-1CA12265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FE2-A1EB-46FE-9884-6762C13A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A21-EDA5-44BF-8F4D-A3A11FC6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CFBC-3989-499A-9366-AF6B50D6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2B98-503B-4DDA-8B12-7683ACCC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C1D4-4C38-4B7D-9CE2-DDCC429C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234A-B6BF-4F6B-8F72-D564ED10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fd2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fd29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6A14-0597-4D52-A581-9848182000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Historical Fict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hat is historical fiction?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haracters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Some may be fictional.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Some may be real.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All act in realistic ways.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They reflect the time period in which they are living.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They speak and behave in ways that are genuine to the time period.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hat is historical fiction?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tting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Takes place in a real time in history.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Takes place in a real place in history.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Objects and places are described more thoroughly in order to showcase the time period.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Descriptions are vivid and help to explain historical information to the reader.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hat is historical fiction?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Plot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Conflict must be realistic for the time period.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Problem must be solved in a realistic manner.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Story is a mixture of real events and fictional events.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18:06:15Z</dcterms:created>
  <dc:creator>AAPS</dc:creator>
  <dc:description/>
  <dc:language>en-US</dc:language>
  <cp:lastModifiedBy>Carrie Dworkin</cp:lastModifiedBy>
  <dcterms:modified xsi:type="dcterms:W3CDTF">2005-08-12T17:00:38Z</dcterms:modified>
  <cp:revision>4</cp:revision>
  <dc:subject/>
  <dc:title>Historical Fiction</dc:title>
</cp:coreProperties>
</file>